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B856-B02D-4502-811B-A36A738F9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428A-4AE6-4A9C-A8DC-7197DEDA53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451D-240E-47B9-9896-0FC55791CE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60A3-9CB7-47B2-BEC4-DC5EE776A4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525-DFA9-4C0E-840D-03A57CDF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BF7-714F-443A-8200-27684DC7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102-96AE-4B90-8288-E18E2A20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3AB-D60F-4D6B-A6EA-14CA01E5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BC9-F9E0-4CDB-BC7B-0B2C78CB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C4D-6CC3-40F4-B0E5-E9387B96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4AA-C118-41D4-8D5D-23322E46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AFE-D1DE-4CA6-A993-48340408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19D-0037-454B-B235-BD17AFE9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5B5-41AB-4E47-8F74-A69CB63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4D2-9456-4154-A622-6C165A72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E04-32DC-4F46-A825-BDC67463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C012-E58A-4ABB-85D4-8A0780869CA1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Earth as a System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rth’s Sphe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arth’s 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4120" y="2438280"/>
            <a:ext cx="36576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m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h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y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hr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ith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arth's solid surface, often called the crust of the earth. It includes continental and oceanic crust as well as the various layers of the Earth's in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0" name="Picture 4" descr="geosphere"/>
          <p:cNvPicPr/>
          <p:nvPr/>
        </p:nvPicPr>
        <p:blipFill>
          <a:blip r:embed="rId1"/>
          <a:stretch/>
        </p:blipFill>
        <p:spPr>
          <a:xfrm>
            <a:off x="5105520" y="1905120"/>
            <a:ext cx="3516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ydr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91320" y="2286000"/>
            <a:ext cx="31240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of the water on Ear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71% of the earth is covered by water and only 29% is terra fir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4" descr="hydrosphere"/>
          <p:cNvPicPr/>
          <p:nvPr/>
        </p:nvPicPr>
        <p:blipFill>
          <a:blip r:embed="rId1"/>
          <a:stretch/>
        </p:blipFill>
        <p:spPr>
          <a:xfrm>
            <a:off x="228600" y="2209680"/>
            <a:ext cx="5389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tm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gaseous sphere and it envelopes the Earth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sts of a mixture of gases composed primarily of nitrogen, oxygen, carbon dioxide, and water vap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" name="Picture 5" descr="atmosphere"/>
          <p:cNvPicPr/>
          <p:nvPr/>
        </p:nvPicPr>
        <p:blipFill>
          <a:blip r:embed="rId1"/>
          <a:stretch/>
        </p:blipFill>
        <p:spPr>
          <a:xfrm>
            <a:off x="3733920" y="2514600"/>
            <a:ext cx="5257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i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8862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life on earth, including man, and all organism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ife zone on our planet distinguishes our planet from the others in the solar syst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4" descr="biosphere"/>
          <p:cNvPicPr/>
          <p:nvPr/>
        </p:nvPicPr>
        <p:blipFill>
          <a:blip r:embed="rId1"/>
          <a:stretch/>
        </p:blipFill>
        <p:spPr>
          <a:xfrm>
            <a:off x="152280" y="2133720"/>
            <a:ext cx="4800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ry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3392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ortion of the Earth's surface where water is in a solid 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now or ice: includes glaciers, ice shelves, snow, icebergs, and arctic climat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0" name="Picture 4" descr="cryosphere"/>
          <p:cNvPicPr/>
          <p:nvPr/>
        </p:nvPicPr>
        <p:blipFill>
          <a:blip r:embed="rId1"/>
          <a:stretch/>
        </p:blipFill>
        <p:spPr>
          <a:xfrm>
            <a:off x="4343400" y="2006640"/>
            <a:ext cx="46483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nthr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 and his direct ancestors, homini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human population, it’s buildings,dams, and other construc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4" descr="anthrosphere"/>
          <p:cNvPicPr/>
          <p:nvPr/>
        </p:nvPicPr>
        <p:blipFill>
          <a:blip r:embed="rId1"/>
          <a:stretch/>
        </p:blipFill>
        <p:spPr>
          <a:xfrm>
            <a:off x="228600" y="2438280"/>
            <a:ext cx="495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terconnected Spher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heres are closely conn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nges are often chain reac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change in one sphere results in changes in others - called an ev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est fire destroys plants in an ar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92160" y="4419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essInteractions"/>
          <p:cNvPicPr/>
          <p:nvPr/>
        </p:nvPicPr>
        <p:blipFill>
          <a:blip r:embed="rId1"/>
          <a:stretch/>
        </p:blipFill>
        <p:spPr>
          <a:xfrm>
            <a:off x="3352680" y="4267080"/>
            <a:ext cx="250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1T21:40:40Z</dcterms:created>
  <dc:creator>Mary Ellsworth</dc:creator>
  <dc:description/>
  <dc:language>en-US</dc:language>
  <cp:lastModifiedBy>hberndt</cp:lastModifiedBy>
  <dcterms:modified xsi:type="dcterms:W3CDTF">2008-09-24T20:13:36Z</dcterms:modified>
  <cp:revision>9</cp:revision>
  <dc:subject/>
  <dc:title>The Earth as a System</dc:title>
</cp:coreProperties>
</file>